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suction.wav" ContentType="audio/x-wav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E46-5882-4046-957B-3D4A4226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7B6-90EC-42B5-9761-735669AF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4EF-9FCF-4A79-9054-6A1EF03C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2EAF-77C7-4C31-A566-3FC314D6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817-F0A9-473B-9EE8-4E71D4D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191-DECA-4204-A3D7-9D836B5F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F0A-3422-4761-B588-56436E82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322-262F-44D8-B61C-797A48EF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2EC-BC55-4C59-82E5-FEA12D4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86B-0C28-476E-9830-29CC09F7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33B-6C85-4BE9-96A4-0550285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61F-49AD-47EC-B377-6A10B94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479-2348-44AB-8AE7-0051D6622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Да бъдеш християни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00360" y="981000"/>
            <a:ext cx="4175280" cy="4464000"/>
          </a:xfrm>
          <a:prstGeom prst="vertic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о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нес да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адеш напъ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ог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ри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ужните стъп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свое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вобожд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Arial"/>
              </a:rPr>
              <a:t>Как действа т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1413000"/>
            <a:ext cx="8280360" cy="3528720"/>
          </a:xfrm>
          <a:custGeom>
            <a:avLst/>
            <a:gdLst>
              <a:gd name="textAreaLeft" fmla="*/ 2070000 w 8280360"/>
              <a:gd name="textAreaRight" fmla="*/ 6210360 w 8280360"/>
              <a:gd name="textAreaTop" fmla="*/ 882000 h 3528720"/>
              <a:gd name="textAreaBottom" fmla="*/ 3424320 h 3528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Arial"/>
              </a:rPr>
              <a:t>Следв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дълж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одоляване на зависимости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465300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050920" y="3068640"/>
            <a:ext cx="1798920" cy="1338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112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от във вер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" nodeType="after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97280" y="706320"/>
            <a:ext cx="50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Как да му го каж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3058920" cy="22906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во казват 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Не се занимавайте с наркотици, защото ще идете в затвора, а там те са наистина скъ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Джон Харду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Arial"/>
              </a:rPr>
              <a:t>Моят цитат 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Да се занимаваш с наркотици е глупаво,защо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е пристрастяваш и си изхарчваш парите за 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Те не ти стигат, започваш да крадеш и да убиваш и те вкарват 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топ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Отдаваш им младините си и умираш 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Смисълът е нулево-отрицателен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1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6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висимостите са з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1944720" cy="164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1630440" cy="163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09840" y="430848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54600" y="4471920"/>
            <a:ext cx="1824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mph" presetID="7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знаци за зависимост от дадено вещество или дейнос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питваш необходимост от по-големи кол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отпускане или бягане от реалност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ди отношенията си с другите х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луждаваш другите за това колко често го прави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9760" y="4665600"/>
            <a:ext cx="4726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bg-BG" sz="4800" spc="-1" strike="noStrike">
                <a:solidFill>
                  <a:srgbClr val="cc0000"/>
                </a:solidFill>
                <a:latin typeface="Arial"/>
              </a:rPr>
              <a:t>пр</a:t>
            </a:r>
            <a:r>
              <a:rPr b="0" lang="bg-BG" sz="4800" spc="-1" strike="noStrike">
                <a:solidFill>
                  <a:srgbClr val="000099"/>
                </a:solidFill>
                <a:latin typeface="Arial"/>
              </a:rPr>
              <a:t>еце</a:t>
            </a:r>
            <a:r>
              <a:rPr b="0" lang="bg-BG" sz="4800" spc="-1" strike="noStrike">
                <a:solidFill>
                  <a:srgbClr val="009900"/>
                </a:solidFill>
                <a:latin typeface="Arial"/>
              </a:rPr>
              <a:t>ни</a:t>
            </a: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60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bg-BG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г казв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5905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Коринтяни 10: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тчи 23:29-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мляни 6:6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Йоан 8:34-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Коринтяни 6:19,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5400000">
            <a:off x="-1513440" y="281772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Избра ли си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292720" y="1341360"/>
            <a:ext cx="367200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doni MT Black"/>
              </a:rPr>
              <a:t>?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5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1571760" cy="133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340000" y="2781360"/>
            <a:ext cx="1303200" cy="130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5219640" y="1197000"/>
            <a:ext cx="2016360" cy="1509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83280" y="0"/>
            <a:ext cx="2160720" cy="136692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во общо има това с ме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8:17:35Z</dcterms:created>
  <dc:creator>CASD</dc:creator>
  <dc:description/>
  <dc:language>en-US</dc:language>
  <cp:lastModifiedBy>CASD</cp:lastModifiedBy>
  <dcterms:modified xsi:type="dcterms:W3CDTF">2007-04-25T18:59:15Z</dcterms:modified>
  <cp:revision>14</cp:revision>
  <dc:subject/>
  <dc:title>Преодоляване на зависимостите</dc:title>
</cp:coreProperties>
</file>