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939-826F-4C68-B21C-B0A2A5CF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FE8-BB10-4718-85CA-2849C61E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C70-8836-45BF-AC63-843A0D89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324-8506-4628-AA60-55847EC5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C41-14EF-48FC-9E11-860B927C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313-C1EA-46FE-A7ED-8D484EFB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AE3-19E8-47F6-9F03-9D35299D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88FE-2E67-4110-8B5B-F433E1F0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65D7-05AA-4C24-B25F-BF3E7369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4568-DABC-4118-9D3C-4258FAC8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8A9F-B712-40FA-9C5A-7BA2F67E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435-DC8D-4800-A550-CC565BEA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2E4A-5C2E-4DDC-ADFE-58E6DE89E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2" name=""/>
          <p:cNvSpPr txBox="1"/>
          <p:nvPr/>
        </p:nvSpPr>
        <p:spPr>
          <a:xfrm>
            <a:off x="3203640" y="620640"/>
            <a:ext cx="511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Само Т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8360" y="189000"/>
            <a:ext cx="822960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1052640"/>
            <a:ext cx="8280360" cy="165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502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50000">
                      <a:srgbClr val="ffffcc"/>
                    </a:gs>
                    <a:gs pos="100000">
                      <a:srgbClr val="66ccff"/>
                    </a:gs>
                  </a:gsLst>
                  <a:lin ang="13500000"/>
                </a:gradFill>
                <a:latin typeface="Arial Black"/>
              </a:rPr>
              <a:t>И само Ти, скъпи Исусе,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50000">
                    <a:srgbClr val="ffffcc"/>
                  </a:gs>
                  <a:gs pos="100000">
                    <a:srgbClr val="66ccff"/>
                  </a:gs>
                </a:gsLst>
                <a:lin ang="135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50000">
                      <a:srgbClr val="ffffcc"/>
                    </a:gs>
                    <a:gs pos="100000">
                      <a:srgbClr val="66ccff"/>
                    </a:gs>
                  </a:gsLst>
                  <a:lin ang="13500000"/>
                </a:gradFill>
                <a:latin typeface="Arial Black"/>
              </a:rPr>
              <a:t>можеш да вървиш винаги с мен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50000">
                    <a:srgbClr val="ffffcc"/>
                  </a:gs>
                  <a:gs pos="100000">
                    <a:srgbClr val="66ccff"/>
                  </a:gs>
                </a:gsLst>
                <a:lin ang="135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50000">
                      <a:srgbClr val="ffffcc"/>
                    </a:gs>
                    <a:gs pos="100000">
                      <a:srgbClr val="66ccff"/>
                    </a:gs>
                  </a:gsLst>
                  <a:lin ang="13500000"/>
                </a:gradFill>
                <a:latin typeface="Arial Black"/>
              </a:rPr>
              <a:t>и да ми даваш мир.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50000">
                    <a:srgbClr val="ffffcc"/>
                  </a:gs>
                  <a:gs pos="100000">
                    <a:srgbClr val="66ccff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d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3200" spc="-1" strike="noStrike">
                <a:solidFill>
                  <a:srgbClr val="663300"/>
                </a:solidFill>
                <a:latin typeface="Arial"/>
              </a:rPr>
              <a:t>Всеки път, когато обърна другата бу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5661000"/>
            <a:ext cx="8663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800" spc="-1" strike="noStrike">
                <a:solidFill>
                  <a:srgbClr val="996633"/>
                </a:solidFill>
                <a:latin typeface="Arial"/>
              </a:rPr>
              <a:t>Само Ти</a:t>
            </a:r>
            <a:r>
              <a:rPr b="1" i="1" lang="be-BY" sz="4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be-BY" sz="4000" spc="-1" strike="noStrike">
                <a:solidFill>
                  <a:srgbClr val="663300"/>
                </a:solidFill>
                <a:latin typeface="Arial"/>
              </a:rPr>
              <a:t>ме виждаш, че пла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crying-woman"/>
          <p:cNvPicPr/>
          <p:nvPr/>
        </p:nvPicPr>
        <p:blipFill>
          <a:blip r:embed="rId1"/>
          <a:stretch/>
        </p:blipFill>
        <p:spPr>
          <a:xfrm>
            <a:off x="1116000" y="981000"/>
            <a:ext cx="6697800" cy="4465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6905880" cy="6905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b1c9cb"/>
                </a:solidFill>
                <a:latin typeface="Arial"/>
              </a:rPr>
              <a:t>Всеки път, когато се чувствам самот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3213000"/>
            <a:ext cx="6337440" cy="3384720"/>
          </a:xfrm>
          <a:prstGeom prst="rect">
            <a:avLst/>
          </a:prstGeom>
          <a:solidFill>
            <a:srgbClr val="ededed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be-BY" sz="4400" spc="-1" strike="noStrike">
                <a:solidFill>
                  <a:srgbClr val="3399ff"/>
                </a:solidFill>
                <a:latin typeface="Arial"/>
              </a:rPr>
              <a:t>Само Ти</a:t>
            </a:r>
            <a:r>
              <a:rPr b="0" lang="be-BY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be-BY" sz="3600" spc="-1" strike="noStrike">
                <a:solidFill>
                  <a:srgbClr val="3399ff"/>
                </a:solidFill>
                <a:latin typeface="Arial"/>
              </a:rPr>
              <a:t>разбираш защ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7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4000" spc="-1" strike="noStrike">
                <a:solidFill>
                  <a:srgbClr val="ff3300"/>
                </a:solidFill>
                <a:latin typeface="Arial"/>
              </a:rPr>
              <a:t>Всеки път, когато съм уплаш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37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800" spc="-1" strike="noStrike">
                <a:solidFill>
                  <a:srgbClr val="990000"/>
                </a:solidFill>
                <a:latin typeface="Arial"/>
              </a:rPr>
              <a:t>Само Ти</a:t>
            </a:r>
            <a:r>
              <a:rPr b="0" i="1" lang="be-BY" sz="4000" spc="-1" strike="noStrike">
                <a:solidFill>
                  <a:srgbClr val="990000"/>
                </a:solidFill>
                <a:latin typeface="Arial"/>
              </a:rPr>
              <a:t> можеш да държиш ръката 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5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3600" spc="-1" strike="noStrike">
                <a:solidFill>
                  <a:srgbClr val="ccecff"/>
                </a:solidFill>
                <a:latin typeface="Arial"/>
              </a:rPr>
              <a:t>Всеки път, когато се предав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558972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4800" spc="-1" strike="noStrike">
                <a:solidFill>
                  <a:srgbClr val="3399ff"/>
                </a:solidFill>
                <a:latin typeface="Arial"/>
              </a:rPr>
              <a:t>Само Ти</a:t>
            </a:r>
            <a:r>
              <a:rPr b="0" lang="be-BY" sz="4000" spc="-1" strike="noStrike">
                <a:solidFill>
                  <a:srgbClr val="ccecff"/>
                </a:solidFill>
                <a:latin typeface="Arial"/>
              </a:rPr>
              <a:t> можеш да ми помогнеш да усто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43280" y="1197000"/>
            <a:ext cx="3409920" cy="4286160"/>
          </a:xfrm>
          <a:prstGeom prst="rect">
            <a:avLst/>
          </a:prstGeom>
          <a:ln w="63360">
            <a:solidFill>
              <a:srgbClr val="ccecff"/>
            </a:solidFill>
            <a:miter/>
          </a:ln>
        </p:spPr>
      </p:pic>
    </p:spTree>
  </p:cSld>
  <p:transition spd="slow" advTm="10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2275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4920" y="115560"/>
            <a:ext cx="5041800" cy="1143000"/>
          </a:xfrm>
          <a:prstGeom prst="rect">
            <a:avLst/>
          </a:prstGeom>
          <a:solidFill>
            <a:srgbClr val="ffffcc">
              <a:alpha val="1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3200" spc="-1" strike="noStrike">
                <a:solidFill>
                  <a:srgbClr val="990000"/>
                </a:solidFill>
                <a:latin typeface="Arial"/>
              </a:rPr>
              <a:t>Всеки път, когато губя вя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8000" y="4941720"/>
            <a:ext cx="496908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800" spc="-1" strike="noStrike">
                <a:solidFill>
                  <a:srgbClr val="ffffff"/>
                </a:solidFill>
                <a:latin typeface="Arial"/>
              </a:rPr>
              <a:t>Само Ти</a:t>
            </a:r>
            <a:r>
              <a:rPr b="0" i="1" lang="be-BY" sz="4000" spc="-1" strike="noStrike">
                <a:solidFill>
                  <a:srgbClr val="ffffff"/>
                </a:solidFill>
                <a:latin typeface="Arial"/>
              </a:rPr>
              <a:t> можеш да ме върнеш обрат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b4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9920" y="0"/>
            <a:ext cx="45640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24000" y="260280"/>
            <a:ext cx="4032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5261c"/>
                    </a:gs>
                    <a:gs pos="100000">
                      <a:srgbClr val="dcebf5"/>
                    </a:gs>
                  </a:gsLst>
                  <a:lin ang="10800000"/>
                </a:gradFill>
                <a:latin typeface="Arial Black"/>
              </a:rPr>
              <a:t>Всеки пъ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5261c"/>
                  </a:gs>
                  <a:gs pos="100000">
                    <a:srgbClr val="dcebf5"/>
                  </a:gs>
                </a:gsLst>
                <a:lin ang="108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5261c"/>
                    </a:gs>
                    <a:gs pos="100000">
                      <a:srgbClr val="dcebf5"/>
                    </a:gs>
                  </a:gsLst>
                  <a:lin ang="10800000"/>
                </a:gradFill>
                <a:latin typeface="Arial Black"/>
              </a:rPr>
              <a:t>когато с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5261c"/>
                  </a:gs>
                  <a:gs pos="100000">
                    <a:srgbClr val="dcebf5"/>
                  </a:gs>
                </a:gsLst>
                <a:lin ang="108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5261c"/>
                    </a:gs>
                    <a:gs pos="100000">
                      <a:srgbClr val="dcebf5"/>
                    </a:gs>
                  </a:gsLst>
                  <a:lin ang="10800000"/>
                </a:gradFill>
                <a:latin typeface="Arial Black"/>
              </a:rPr>
              <a:t>чувства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5261c"/>
                  </a:gs>
                  <a:gs pos="100000">
                    <a:srgbClr val="dcebf5"/>
                  </a:gs>
                </a:gsLst>
                <a:lin ang="108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5261c"/>
                    </a:gs>
                    <a:gs pos="100000">
                      <a:srgbClr val="dcebf5"/>
                    </a:gs>
                  </a:gsLst>
                  <a:lin ang="10800000"/>
                </a:gradFill>
                <a:latin typeface="Arial Black"/>
              </a:rPr>
              <a:t>депресир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5261c"/>
                  </a:gs>
                  <a:gs pos="100000">
                    <a:srgbClr val="dcebf5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3213000"/>
            <a:ext cx="3672000" cy="32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10800000"/>
                </a:gradFill>
                <a:latin typeface="Arial Black"/>
              </a:rPr>
              <a:t>Само 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108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10800000"/>
                </a:gradFill>
                <a:latin typeface="Arial Black"/>
              </a:rPr>
              <a:t>можеш да 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108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10800000"/>
                </a:gradFill>
                <a:latin typeface="Arial Black"/>
              </a:rPr>
              <a:t>дадеш отно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108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10800000"/>
                </a:gradFill>
                <a:latin typeface="Arial Black"/>
              </a:rPr>
              <a:t>слънчев де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slow" advTm="10000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4360" y="537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762800" cy="3857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68360" y="0"/>
            <a:ext cx="792000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секи път, когато живо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зглежда труден и толков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есправедли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6920" y="4508640"/>
            <a:ext cx="73454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амо Ти можеш любящ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а ми прошепнеш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“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сто вярвай”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0000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332000" y="189000"/>
            <a:ext cx="65898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Да, аз зная, че върховет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и спадовете в живо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икога няма да спрат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0000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0:27:06Z</dcterms:created>
  <dc:creator>ubb</dc:creator>
  <dc:description/>
  <dc:language>en-US</dc:language>
  <cp:lastModifiedBy>ubb</cp:lastModifiedBy>
  <dcterms:modified xsi:type="dcterms:W3CDTF">2010-04-13T08:06:13Z</dcterms:modified>
  <cp:revision>41</cp:revision>
  <dc:subject/>
  <dc:title>САМО ТИ</dc:title>
</cp:coreProperties>
</file>