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8BF-D43D-41F1-BA4A-FD30E278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E70-524A-4176-A678-DD0C0A0C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553-630F-4731-84DA-2BC1893B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3E8-D015-44B0-A7FE-2824C99B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2F8-5314-43BD-88AD-E90C2A72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848-40F6-439F-A5F9-DCDA589E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890-5088-4FE7-83A9-3EBFCF7C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9B8-2E0A-45AD-8C95-0FDA9C46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71C-F373-4F56-B2A4-7258428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C46-B992-4255-8D32-C41182A0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BAF-9561-49BE-A5DE-73E0BEC0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6DD-B2CC-4846-8F5D-35E7DF4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A04-FBA8-4D32-A277-5FCBFE2362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ith you.wav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2203560"/>
            <a:ext cx="6408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Псалм 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3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403200"/>
            <a:ext cx="82929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Прогласил съм правда в голямо събрани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ето, не съм въздържал устните с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Господи, Ти знае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8360" y="342900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равдата Ти не съм скрил в сърцето си;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верността Ти и спасението Ти съм изявил;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е съм утаил Твоето милосърд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 Твоята истина от голямо събра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709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11280" y="476280"/>
            <a:ext cx="80168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Господи, не задържай благите Си милости от мен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Твоето милосърдие и Твоята ис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нека ме пазят винаг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50920" y="3068640"/>
            <a:ext cx="8208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щото са ме обкръжили безброй злини,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игнаха ме беззаконията ми, 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ка че не мога да повдигна очите си;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 са по-многобройни от космите на главата ми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ърцето ми отпадна.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4000"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82560" y="404640"/>
            <a:ext cx="777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Благоволи, Господи, да ме избавиш;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Господи, побързай да ми помогнеш.</a:t>
            </a:r>
            <a:endParaRPr b="0" lang="en-US" sz="1800" spc="1" strike="noStrike">
              <a:ln w="9360">
                <a:solidFill>
                  <a:srgbClr val="e3ebf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6482" t="30031" r="8527" b="255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11280" y="3933720"/>
            <a:ext cx="7993080" cy="25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ка се посрамят и се смутят заедно всич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нези, които търсят душата ми, за да я погубят;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ка се обърнат назад и се опозоря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нези, които се наслаждават на нещастието м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4630" t="12506" r="4630" b="31256"/>
          <a:stretch/>
        </p:blipFill>
        <p:spPr>
          <a:xfrm>
            <a:off x="0" y="-2232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19280" y="549360"/>
            <a:ext cx="650412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ка се смаят поради срама с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ези, които казват: Охохо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754200" y="549360"/>
            <a:ext cx="7634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Нека се радват и се веселят в Теб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всички, които Те търсят;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58920" y="3932280"/>
            <a:ext cx="655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 Black"/>
              </a:rPr>
              <a:t>онези, които обичат спасението Ти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66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 Black"/>
              </a:rPr>
              <a:t>нека казват винаги: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66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 Black"/>
              </a:rPr>
              <a:t>Да се величае Господ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611280" y="26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a3e0ff">
                      <a:alpha val="50000"/>
                    </a:srgbClr>
                  </a:outerShdw>
                </a:effectLst>
                <a:latin typeface="Arial Black"/>
              </a:rPr>
              <a:t>А аз съм сиромах и немощен,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a3e0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a3e0ff">
                      <a:alpha val="50000"/>
                    </a:srgbClr>
                  </a:outerShdw>
                </a:effectLst>
                <a:latin typeface="Arial Black"/>
              </a:rPr>
              <a:t>но Господ се грижи за мене;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a3e0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7640" y="508464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помощ моя и избавител мой си Ти;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Боже мой, да не се забавиш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p:transition spd="slow" advTm="20000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826920" y="1197000"/>
            <a:ext cx="7129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Чаках с търпение Господа;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и Той се приклони към мен;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и послуша вика ми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2820960"/>
            <a:ext cx="6769080" cy="403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и ме изведе от гибелната яма,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от тинята и калта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и постави на скала краката ми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и утвърди стъпките ми;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96720" y="333360"/>
            <a:ext cx="58309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сложи още в устата ми нова песен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хваление към нашия Бог;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мнозина ще видят и ще се убоят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и ще уповават на Господа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6" descr="5300777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9640" y="3284640"/>
            <a:ext cx="8134560" cy="34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лажен онзи чове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йто възлага упованието си на Госп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не е склонил към горделивит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ито към онези, които коварно отстъпва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3000"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709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4000" y="331920"/>
            <a:ext cx="8459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Господи, Боже мой, Ти си сторил много чудеса;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и Твоите мисли заради на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не е възможно да ги изложи някой пред Теб;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8120" y="5734080"/>
            <a:ext cx="845496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ако бих поискал да ги изявя и разкажа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те превишават всяко преброяване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slow" advTm="15000"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42960" y="476280"/>
            <a:ext cx="78166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Към жертва и приноси Ти нямаш благоволение;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отворил си уши в мене;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всеизгаряне и принос за грях Ти не си поискал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IKSLM1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826920" y="907920"/>
            <a:ext cx="670572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огава казах: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Ето, дойдох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в свитъка на книгата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е предречено за мене).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16775" r="0" b="21334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9640" y="189000"/>
            <a:ext cx="7417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аго ми е, Боже мой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 изпълнявам Твоята вол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! Законът Ти 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ълбоко в сърцето м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2000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0:49:09Z</dcterms:created>
  <dc:creator>MIRIAM CHETCUTI</dc:creator>
  <dc:description>Copyright © 2008 Tommy's Window. 
All Rights Reserved
 DO NOT modify.</dc:description>
  <dc:language>en-US</dc:language>
  <cp:lastModifiedBy>ubb</cp:lastModifiedBy>
  <dcterms:modified xsi:type="dcterms:W3CDTF">2010-11-09T12:46:34Z</dcterms:modified>
  <cp:revision>41</cp:revision>
  <dc:subject>Maltese translation</dc:subject>
  <dc:title>Psalm 40</dc:title>
</cp:coreProperties>
</file>