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E82-C0B3-421A-B523-C4C9E0F6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EA7-6303-4C92-9189-408FF0B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6A3-0FD7-4BC2-8CF5-FE73F68C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261-6352-4BF4-A24C-95D2F405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83F-8C0A-4C93-8CF2-E52BC33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A54-5079-4B89-837F-B1181F4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A7B-DEF4-403E-8D58-E720280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DEB-6021-488F-84F7-538992A1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B02-0F83-41D6-9113-E047EC7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0B1-EF03-4A6B-BA5C-B57A33D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482-BBA3-44A6-8CFF-F11D953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9C7-5BC8-4FFA-A922-3A532FA3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EBF-E411-4E04-8036-F21D84DC9D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tream.wav" TargetMode="External"/><Relationship Id="rId2" Type="http://schemas.microsoft.com/office/2007/relationships/media" Target="file:///tmp/home/.config/libreoffice/4/user/gallery/Stream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1547640" y="1341360"/>
            <a:ext cx="611208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d3db9"/>
                    </a:gs>
                    <a:gs pos="100000">
                      <a:srgbClr val="4986c3"/>
                    </a:gs>
                  </a:gsLst>
                  <a:lin ang="5400000"/>
                </a:gradFill>
                <a:latin typeface="Arial Black"/>
              </a:rPr>
              <a:t>Псалм 3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d3db9"/>
                  </a:gs>
                  <a:gs pos="100000">
                    <a:srgbClr val="4986c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5029200"/>
            <a:ext cx="8153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Бойте се от Господа вие, Негови светии;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защото за боящите се от Него няма оскъдност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900000" y="4508640"/>
            <a:ext cx="71629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Лъвчетата търпят нужда и глад;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о онези, които търсят Господа, 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яма да бъдат в оскъдност за никое добро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187280" y="4653000"/>
            <a:ext cx="6782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Елате, синове, послушайте мене;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ще ви науча на страх от Господа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Желае ли човек живот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обича ли дългоденствие, за да види добрини?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489800" cy="44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900080"/>
            <a:ext cx="9325080" cy="9324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635280" y="2492280"/>
            <a:ext cx="2232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ази езика си от зло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58920" y="5516640"/>
            <a:ext cx="6724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и устните си от лъжливо говорене.</a:t>
            </a:r>
            <a:endParaRPr b="0" lang="en-US" sz="1800" spc="1" strike="noStrike">
              <a:ln w="9360">
                <a:solidFill>
                  <a:srgbClr val="336699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00000" y="566100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Отклонявай се от злото и върши доброто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търси мира и се стреми към него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042920" y="26028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Очите на Господа са върху праведнит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ушите Му - към техния вик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Moon Setting at First Light, Crested Butte, Colorad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8360" y="333360"/>
            <a:ext cx="74883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287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Лицето на Господа е против онези, които вършат зло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287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287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за да изтреби помена им от земята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287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14400" y="533520"/>
            <a:ext cx="7315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раведните извикаха и Господ послуша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от всичките им беди ги избави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Moonset on Vancouver Island - Canada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260280"/>
            <a:ext cx="6840360" cy="24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b24c1e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Господ е близо до онези,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b24c1e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b24c1e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оито са със съкрушено сърце,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b24c1e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b24c1e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спасява онези, които са с разкаян дух.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b24c1e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night view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84360" y="5300640"/>
            <a:ext cx="746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Много са неволите на праведния;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о Господ го избавя от всички тях;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Ще благославям Господа по всяко време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охвала към Него ще бъде винаги в устата ми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3251" t="4653" r="3251" b="4653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62120" y="274320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Той пази всичките му кости;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нито една от тях не се строшава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sun_moon_star_cloud_sea_mountain_herb_all in one glance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042920" y="472428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Arial Black"/>
              </a:rPr>
              <a:t>Злощастието ще затрие грешния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003399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Arial Black"/>
              </a:rPr>
              <a:t>и онези, които мразят праведния, ще бъдат осъден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0033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-181080" y="-171360"/>
            <a:ext cx="9433080" cy="943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844640"/>
            <a:ext cx="712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Господ изкупва душата на слугите Си;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 от онези, които уповават на Него,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нито един няма да бъде осъден.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55640" y="4941720"/>
            <a:ext cx="7550280" cy="16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 Господа ще се хвали душата ми;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смирените ще чуят това и ще се зарадват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Moon on Costa Brava by Oscar Vall Gallen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4724280"/>
            <a:ext cx="7772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еличайте Господа с мен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заедно нека възвеличим името Му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moonlight by the rocky river 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461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To the moon"/>
          <p:cNvPicPr/>
          <p:nvPr/>
        </p:nvPicPr>
        <p:blipFill>
          <a:blip r:embed="rId1"/>
          <a:stretch/>
        </p:blipFill>
        <p:spPr>
          <a:xfrm>
            <a:off x="0" y="-200160"/>
            <a:ext cx="9252000" cy="739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09480" y="380880"/>
            <a:ext cx="8001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огледнаха към Него;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светнаха очите и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3ebf1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лицата им никога няма да се посрамят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e3ebf1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73472E-018 6.66667E-006 L -1.73472E-018 0.56667 E">
                                      <p:cBhvr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Full moon rising"/>
          <p:cNvPicPr/>
          <p:nvPr/>
        </p:nvPicPr>
        <p:blipFill>
          <a:blip r:embed="rId1"/>
          <a:stretch/>
        </p:blipFill>
        <p:spPr>
          <a:xfrm>
            <a:off x="0" y="0"/>
            <a:ext cx="1040436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50920" y="0"/>
            <a:ext cx="5329080" cy="51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ози сиром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вика и Гос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 послу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от всичките 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еволи го избав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05600" y="0"/>
            <a:ext cx="3038400" cy="707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1147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62120" y="380880"/>
            <a:ext cx="7467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Ангелът на Господа застава около онези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които се боят от Него,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 ги избавя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Night - by burlacu Iurie"/>
          <p:cNvPicPr/>
          <p:nvPr/>
        </p:nvPicPr>
        <p:blipFill>
          <a:blip r:embed="rId1"/>
          <a:stretch/>
        </p:blipFill>
        <p:spPr>
          <a:xfrm>
            <a:off x="0" y="-81000"/>
            <a:ext cx="9252000" cy="697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838080" y="5181480"/>
            <a:ext cx="746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кусете и вижте, че Господ е благ;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gradFill rotWithShape="0">
                  <a:gsLst>
                    <a:gs pos="0">
                      <a:srgbClr val="79a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блажен онзи човек, който уповава на Него.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gradFill rotWithShape="0">
                <a:gsLst>
                  <a:gs pos="0">
                    <a:srgbClr val="79a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9:58:26Z</dcterms:created>
  <dc:creator>Martha</dc:creator>
  <dc:description>Copyright © 2007 Tommy's Window. 
All Rights Reserved
 DO NOT modify.</dc:description>
  <dc:language>en-US</dc:language>
  <cp:lastModifiedBy>ubb</cp:lastModifiedBy>
  <dcterms:modified xsi:type="dcterms:W3CDTF">2010-11-08T11:35:12Z</dcterms:modified>
  <cp:revision>36</cp:revision>
  <dc:subject>Maltese translation by MIRIAM CHETCUTI</dc:subject>
  <dc:title>He is my Rock</dc:title>
</cp:coreProperties>
</file>