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F7C-5686-48E2-B255-FD3799FC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3EB-3A45-4CD9-A462-7E62418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E3E-456A-4FD2-8B44-F1ECF9A2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B76-3EF2-4934-A6AE-4CD1B69D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4DC-1015-4D49-BB06-C5B33ED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320-41B2-4112-9CC2-260ACFB6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9EA-5C37-4A98-94D5-5D7BC36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791-4D22-403D-9BEC-D9A2206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1D2-E277-4A41-8884-0F8160D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846-AFE1-4CF9-8D79-BFFD7A6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EED-4D90-4F80-8FC5-CC18C0B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34B-BF21-46B2-AF90-913EF0B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27A-44C4-420B-AEDC-96F6175D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5534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4934" t="0" r="0" b="83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 rot="21077400">
            <a:off x="1355760" y="2349000"/>
            <a:ext cx="778176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27d00"/>
                    </a:gs>
                    <a:gs pos="50000">
                      <a:srgbClr val="ff9933"/>
                    </a:gs>
                    <a:gs pos="100000">
                      <a:srgbClr val="d27d00"/>
                    </a:gs>
                  </a:gsLst>
                  <a:lin ang="13500000"/>
                </a:gradFill>
                <a:latin typeface="Impact"/>
              </a:rPr>
              <a:t>Защи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27d00"/>
                  </a:gs>
                  <a:gs pos="50000">
                    <a:srgbClr val="ff9933"/>
                  </a:gs>
                  <a:gs pos="100000">
                    <a:srgbClr val="d27d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3396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00a2"/>
                </a:solidFill>
                <a:latin typeface="Arial"/>
              </a:rPr>
              <a:t>Библейски стихове за укрепване на вашата вя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897" t="0" r="89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1371600" y="4114800"/>
            <a:ext cx="6477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Ето, дадох ви власт да настъпва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мии и скорпиони и власт над цялата сила на враг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нищо няма да ви навре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57600" y="624852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Лука 10:1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8600" y="45720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Ето, ръката на Госп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е се е скъсил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 да не може да спас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ито ухото Му е затъпя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 да не може да чув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274320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сая 59: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350" t="9193" r="6937" b="91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1447920" y="50292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В страха от Господа има силна уверен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и Неговите деца ще имат прибежищ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33920" y="640080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ритчи 14:2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1752480" y="4572000"/>
            <a:ext cx="5848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 ще воюва за вас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 вие бъдете спокойн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9880" y="624852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зход 14:1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52480" y="380880"/>
            <a:ext cx="5639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Нека се бои от Господа цялата земя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нека благоговеят с боязъ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пред Него всички жители на вселена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57600" y="25909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33: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914400" y="46483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Ето, окото на Господа е върху онези, които се боят от Не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върху онези, които се надяват на Неговата милос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57600" y="632448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33:1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762120" y="380880"/>
            <a:ext cx="7696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 всеки, който ме слуша, ще живее в безопасн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ще бъде спокоен, без да се бои от зл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33920" y="1981080"/>
            <a:ext cx="1523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ритчи 1:3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1447920" y="304920"/>
            <a:ext cx="6019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мето Господне е яка кул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праведният прибягва в н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е поставен на висок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33920" y="15238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ритчи 18: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24600" y="1371600"/>
            <a:ext cx="4476600" cy="8859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7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31:49Z</dcterms:created>
  <dc:creator>Martha</dc:creator>
  <dc:description>Copyright © 2007 Tommy's Window. 
All Rights Reserved
 DO NOT modify.</dc:description>
  <dc:language>en-US</dc:language>
  <cp:lastModifiedBy>ubb</cp:lastModifiedBy>
  <dcterms:modified xsi:type="dcterms:W3CDTF">2010-11-03T14:15:34Z</dcterms:modified>
  <cp:revision>58</cp:revision>
  <dc:subject>Russian translation by Gabi</dc:subject>
  <dc:title>Protection</dc:title>
</cp:coreProperties>
</file>