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370-6F08-4A0B-A4F2-614ECD17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8424-F581-4376-AE67-06DBCBAD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0BF4-AF27-4103-A334-F9F65B29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ADB-F9A5-4E28-9056-DE88BDD1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79A-BBDD-4145-9424-D8925977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CED-EAC4-4886-B1F4-FB23A53A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180-6E81-4C69-B50B-AFF9B909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816-0606-4395-BDEE-9371222F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888D-7C75-453C-A2A2-FBDF2CC1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C70-400B-45D6-B29E-36F44B1A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66F4-0BC1-4B8A-BBE4-D28D3FE7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867-2F7A-4676-85EA-EDF2CB57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4AE5-A7C7-4151-8BCC-F69E44D4B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152280"/>
            <a:ext cx="8686800" cy="655344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f2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 rot="21077400">
            <a:off x="1523880" y="2057040"/>
            <a:ext cx="7770960" cy="324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27d00"/>
                    </a:gs>
                    <a:gs pos="50000">
                      <a:srgbClr val="ff9933"/>
                    </a:gs>
                    <a:gs pos="100000">
                      <a:srgbClr val="d27d00"/>
                    </a:gs>
                  </a:gsLst>
                  <a:lin ang="13500000"/>
                </a:gradFill>
                <a:latin typeface="Impact"/>
              </a:rPr>
              <a:t>СИ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27d00"/>
                  </a:gs>
                  <a:gs pos="50000">
                    <a:srgbClr val="ff9933"/>
                  </a:gs>
                  <a:gs pos="100000">
                    <a:srgbClr val="d27d0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27d00"/>
                    </a:gs>
                    <a:gs pos="50000">
                      <a:srgbClr val="ff9933"/>
                    </a:gs>
                    <a:gs pos="100000">
                      <a:srgbClr val="d27d00"/>
                    </a:gs>
                  </a:gsLst>
                  <a:lin ang="13500000"/>
                </a:gradFill>
                <a:latin typeface="Impact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27d00"/>
                  </a:gs>
                  <a:gs pos="50000">
                    <a:srgbClr val="ff9933"/>
                  </a:gs>
                  <a:gs pos="100000">
                    <a:srgbClr val="d27d0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27d00"/>
                    </a:gs>
                    <a:gs pos="50000">
                      <a:srgbClr val="ff9933"/>
                    </a:gs>
                    <a:gs pos="100000">
                      <a:srgbClr val="d27d00"/>
                    </a:gs>
                  </a:gsLst>
                  <a:lin ang="13500000"/>
                </a:gradFill>
                <a:latin typeface="Impact"/>
              </a:rPr>
              <a:t>МО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27d00"/>
                  </a:gs>
                  <a:gs pos="50000">
                    <a:srgbClr val="ff9933"/>
                  </a:gs>
                  <a:gs pos="100000">
                    <a:srgbClr val="d27d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6033960"/>
            <a:ext cx="7391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800a2"/>
                </a:solidFill>
                <a:latin typeface="Arial"/>
              </a:rPr>
              <a:t>Библейски стихове за подкрепа и насър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003" t="2817" r="2003" b="28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>
            <a:off x="1295280" y="533520"/>
            <a:ext cx="6477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За всичко имам си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чрез Онзи, Който ме укрепя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8120" y="2286000"/>
            <a:ext cx="2895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Филипяни 4:1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2000"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5002" t="6874" r="5882" b="68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 txBox="1"/>
          <p:nvPr/>
        </p:nvSpPr>
        <p:spPr>
          <a:xfrm>
            <a:off x="533520" y="5181480"/>
            <a:ext cx="8076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... радостта в Господа е вашата сил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9880" y="6324480"/>
            <a:ext cx="1524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Неемия 8:10б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2000"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 txBox="1"/>
          <p:nvPr/>
        </p:nvSpPr>
        <p:spPr>
          <a:xfrm>
            <a:off x="1447920" y="4876920"/>
            <a:ext cx="6324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9966"/>
                    </a:gs>
                  </a:gsLst>
                  <a:lin ang="5400000"/>
                </a:gra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9966"/>
                    </a:gs>
                  </a:gsLst>
                  <a:lin ang="5400000"/>
                </a:gradFill>
                <a:latin typeface="Arial Black"/>
              </a:rPr>
              <a:t>А ние имаме това съкровище в пръстени съдов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9966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9966"/>
                    </a:gs>
                  </a:gsLst>
                  <a:lin ang="5400000"/>
                </a:gradFill>
                <a:latin typeface="Arial Black"/>
              </a:rPr>
              <a:t>за да се види, че превъзходната сила е от Бог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9966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9966"/>
                    </a:gs>
                  </a:gsLst>
                  <a:lin ang="5400000"/>
                </a:gradFill>
                <a:latin typeface="Arial Black"/>
              </a:rPr>
              <a:t>а не от нас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99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76720" y="6477120"/>
            <a:ext cx="2590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2Коринтяни 4:7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2000">
    <p:comb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"/>
          <p:cNvSpPr txBox="1"/>
          <p:nvPr/>
        </p:nvSpPr>
        <p:spPr>
          <a:xfrm>
            <a:off x="1752480" y="380880"/>
            <a:ext cx="58485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b5bff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Не чрез сила, нито чрез мощ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b5bff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b5bff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а чрез Духа Ми, казва Господ на Силит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b5bff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81280" y="2666880"/>
            <a:ext cx="19814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Захария 4:6б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2000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47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"/>
          <p:cNvSpPr txBox="1"/>
          <p:nvPr/>
        </p:nvSpPr>
        <p:spPr>
          <a:xfrm>
            <a:off x="1752480" y="380880"/>
            <a:ext cx="56390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6161cb"/>
                    </a:gs>
                  </a:gsLst>
                  <a:lin ang="5400000"/>
                </a:gradFill>
                <a:latin typeface="Arial Black"/>
              </a:rPr>
              <a:t>Доволно ти е Моята благодат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6161c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6161cb"/>
                    </a:gs>
                  </a:gsLst>
                  <a:lin ang="5400000"/>
                </a:gradFill>
                <a:latin typeface="Arial Black"/>
              </a:rPr>
              <a:t>защото силата Ми в немо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6161c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6161cb"/>
                    </a:gs>
                  </a:gsLst>
                  <a:lin ang="5400000"/>
                </a:gradFill>
                <a:latin typeface="Arial Black"/>
              </a:rPr>
              <a:t>се показва съвърше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6161c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8120" y="6324480"/>
            <a:ext cx="30477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2 Кориняни 12:9, 10б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66680" y="4114800"/>
            <a:ext cx="6858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ff9966"/>
                    </a:gs>
                  </a:gsLst>
                  <a:lin ang="5400000"/>
                </a:gradFill>
                <a:latin typeface="Arial Black"/>
              </a:rPr>
              <a:t>Затова намирам удоволствие в немощ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cc"/>
                  </a:gs>
                  <a:gs pos="100000">
                    <a:srgbClr val="ff9966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ff9966"/>
                    </a:gs>
                  </a:gsLst>
                  <a:lin ang="5400000"/>
                </a:gradFill>
                <a:latin typeface="Arial Black"/>
              </a:rPr>
              <a:t>в укори, в лишения, в гонения, в притеснения за Христос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cc"/>
                  </a:gs>
                  <a:gs pos="100000">
                    <a:srgbClr val="ff9966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ff9966"/>
                    </a:gs>
                  </a:gsLst>
                  <a:lin ang="5400000"/>
                </a:gradFill>
                <a:latin typeface="Arial Black"/>
              </a:rPr>
              <a:t>защото когато съм немощен, тогава съм силе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cc"/>
                  </a:gs>
                  <a:gs pos="100000">
                    <a:srgbClr val="ff99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12000">
    <p:comb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40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"/>
          <p:cNvSpPr txBox="1"/>
          <p:nvPr/>
        </p:nvSpPr>
        <p:spPr>
          <a:xfrm>
            <a:off x="838080" y="304920"/>
            <a:ext cx="7315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Чрез завръщане и почивка ще се избавит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в безмълвие и увереност ще бъде силата ви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9880" y="2133720"/>
            <a:ext cx="1524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Исая 30:15б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2000"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2351" t="2757" r="3235" b="27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"/>
          <p:cNvSpPr txBox="1"/>
          <p:nvPr/>
        </p:nvSpPr>
        <p:spPr>
          <a:xfrm>
            <a:off x="762120" y="3581280"/>
            <a:ext cx="76960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а онези, които чакат Господа, ще подновят силата с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ще се издигат с крила като орл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ще тичат и няма да се уморя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ще ходят и няма да отслабна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733920" y="624852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Исая 40:3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843520" y="1295280"/>
            <a:ext cx="1014480" cy="10573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"/>
          <p:cNvSpPr txBox="1"/>
          <p:nvPr/>
        </p:nvSpPr>
        <p:spPr>
          <a:xfrm>
            <a:off x="2057400" y="3886200"/>
            <a:ext cx="5029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силата ти да бъде според дните т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05320" y="5105520"/>
            <a:ext cx="21333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Второзаконие 33:25б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96000" y="380880"/>
            <a:ext cx="4476600" cy="8859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omb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7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02:31:49Z</dcterms:created>
  <dc:creator>Martha</dc:creator>
  <dc:description>Copyright © 2007 Tommy's Window. 
All Rights Reserved
 DO NOT modify</dc:description>
  <dc:language>en-US</dc:language>
  <cp:lastModifiedBy>ubb</cp:lastModifiedBy>
  <dcterms:modified xsi:type="dcterms:W3CDTF">2010-11-03T14:36:16Z</dcterms:modified>
  <cp:revision>51</cp:revision>
  <dc:subject>Russian translation by Gabi</dc:subject>
  <dc:title>Strenght &amp; Power</dc:title>
</cp:coreProperties>
</file>