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Amazing%20Grace%20(2m%2034s)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7BF-0C89-4963-9AA1-36302DD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F7D-2744-4E90-BCB6-D64C1452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9FF-4522-46A1-9871-624994FB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A76-2013-4469-A83B-A75EF79D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3A05-6D85-4582-A0C1-4590008D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675D-9BE6-4430-987D-DD9C7B93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7401-FF50-4E2A-8776-0F4FBEC2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2D8-42CB-4E60-A0E0-5401F75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3427-A1C6-4B87-B9EB-EE76EE2B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6811-7793-4012-84A2-3CF956AA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51F4-120B-45A5-98F8-9986D6E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9C7-65B2-4248-B017-9D5B622B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808-9E70-4FEA-BE62-1922A4A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D415-7641-429E-A32D-B3484D0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A27-7F79-4564-8261-AFD7A86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937-8BA5-4F8A-910D-692DF2C6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F085-584E-43D7-945A-6074C84C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770-F6F1-43D7-9781-E47157B1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167-A2E9-4561-9149-872C8970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647-ADB1-4BA2-B91A-8A82773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DAD-13EF-4657-A30F-DDB5702B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531-DE88-420D-92A9-97F1FA6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6DF-551B-44F5-AAA0-EDD7B82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3B0-C804-42BD-A7A3-3F7255B5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7DFA-F743-4F7E-934D-AF59D96AC432}" type="slidenum">
              <a:rPr b="0" lang="bg-BG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b335b"/>
            </a:solidFill>
            <a:ln w="5724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9F16-E66D-4A1A-B77F-23BEBFA1E22F}" type="slidenum">
              <a:rPr b="0" lang="bg-BG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%20Grace%20(2m%2034s)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ible.netbg.com/bible/paralel/bible.php?b=john&amp;c=14&amp;v1=27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ble.netbg.com/bible/paralel/bible.php?b=romans&amp;c=5&amp;v1=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1557360"/>
            <a:ext cx="6912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399ff"/>
                    </a:gs>
                    <a:gs pos="50000">
                      <a:srgbClr val="c1daff"/>
                    </a:gs>
                    <a:gs pos="100000">
                      <a:srgbClr val="539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Миръ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399ff"/>
                  </a:gs>
                  <a:gs pos="50000">
                    <a:srgbClr val="c1daff"/>
                  </a:gs>
                  <a:gs pos="100000">
                    <a:srgbClr val="5399ff"/>
                  </a:gs>
                </a:gsLst>
                <a:lin ang="5400000"/>
              </a:gradFill>
              <a:effectLst>
                <a:outerShdw dist="71785" dir="27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omb dir="horz"/>
    <p:sndAc>
      <p:stSnd>
        <p:snd r:embed="rId1" name="Amazing%20Grace%20(2m%2034s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16000" y="1125360"/>
            <a:ext cx="6840720" cy="46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553080" cy="4416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20606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"Ако е възможно, доколкото зависи от вас, живейте в мир с всичките човеци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(Римляни 12:18).</a:t>
            </a: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2aa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77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"И тъй, като принасяш дара си на олтара, ако там си спомниш, че брат ти има нещо против теб, остави дара си там, пред олтара, и иди първо се помири с брата си, тогава дойди и принеси дара си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(Матей 5:23, 24)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32000" y="1989000"/>
            <a:ext cx="64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Не се оставяй да те побеждава злот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Arial"/>
              </a:rPr>
              <a:t>но ти побеждавай злото чрез доброто.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bg-BG" sz="3200" spc="-1" strike="noStrike">
                <a:solidFill>
                  <a:srgbClr val="ff9900"/>
                </a:solidFill>
                <a:latin typeface="Arial"/>
              </a:rPr>
              <a:t>Римляни 12:2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1844640"/>
            <a:ext cx="7777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Блажени миротворцит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защото те ще се нарекат </a:t>
            </a:r>
            <a:r>
              <a:rPr b="1" i="1" lang="bg-BG" sz="3200" spc="-1" strike="noStrike">
                <a:solidFill>
                  <a:srgbClr val="ffffff"/>
                </a:solidFill>
                <a:latin typeface="Arial"/>
              </a:rPr>
              <a:t>Божии чада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bg-BG" sz="2800" spc="-1" strike="noStrike">
                <a:solidFill>
                  <a:srgbClr val="ff9900"/>
                </a:solidFill>
                <a:latin typeface="Arial"/>
              </a:rPr>
              <a:t>Матей 5:9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08000" y="118584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77336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И нека царува в сърцата ви </a:t>
            </a: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Христовият мир</a:t>
            </a:r>
            <a:r>
              <a:rPr b="0" i="1" lang="bg-BG" sz="2800" spc="-1" strike="noStrike">
                <a:solidFill>
                  <a:srgbClr val="ffffff"/>
                </a:solidFill>
                <a:latin typeface="Arial"/>
              </a:rPr>
              <a:t>, за който бяхте и призвани в едно тяло; и бъдете благодарн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bg-BG" sz="2800" spc="-1" strike="noStrike">
                <a:solidFill>
                  <a:srgbClr val="ff9900"/>
                </a:solidFill>
                <a:latin typeface="Arial"/>
              </a:rPr>
              <a:t>Колосяни 3:13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692280"/>
            <a:ext cx="7344000" cy="56163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836640"/>
            <a:ext cx="7058160" cy="5294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581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708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42920" y="1989000"/>
            <a:ext cx="741672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cb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"Но мъдростта, която е отгоре, е преди всичко чиста, после миролюбива, кротка, умолима, пълна с милост и добри плодове, примирителна, нелицемерна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Яков 3:17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2000" y="1700280"/>
            <a:ext cx="61196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1daff"/>
                </a:solidFill>
                <a:latin typeface="Arial"/>
              </a:rPr>
              <a:t>"Мир ви оставям. Моя мир ви давам. Аз не ви давам, както светът дава. Да не се смущава сърцето ви, нито да се бои"</a:t>
            </a:r>
            <a:r>
              <a:rPr b="1" lang="bg-BG" sz="2400" spc="-1" strike="noStrike">
                <a:solidFill>
                  <a:srgbClr val="c1da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1daff"/>
                </a:solidFill>
                <a:latin typeface="Arial"/>
              </a:rPr>
              <a:t>(</a:t>
            </a:r>
            <a:r>
              <a:rPr b="0" lang="bg-BG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Йоан 14:27</a:t>
            </a:r>
            <a:r>
              <a:rPr b="1" lang="bg-BG" sz="2400" spc="-1" strike="noStrike">
                <a:solidFill>
                  <a:srgbClr val="c1daff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c1da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7640" y="1989000"/>
            <a:ext cx="56167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"И така, оправдани чрез вяра, имаме мир с Бога чрез нашия Господ Исус Христос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Римляни 5:1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1916280"/>
            <a:ext cx="69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"Елате при Мен всички, които се трудите и сте обременени, и Аз ще ви успокоя. Вземете Моето иго върху си и научете се от Мен, защото съм кротък и смирен по сърце; и ще намерите покой на душите си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2800" spc="-1" strike="noStrike">
                <a:solidFill>
                  <a:srgbClr val="ff9900"/>
                </a:solidFill>
                <a:latin typeface="Arial"/>
              </a:rPr>
              <a:t>Матей 11:28, 29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19280" y="1844640"/>
            <a:ext cx="59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"Търсете мир с всички и онова освещение, без което никой няма да види Господа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(Евреи 12:14).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лодът на Духа е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1:02:56Z</dcterms:created>
  <dc:creator>User</dc:creator>
  <dc:description>Reçu de Ghislaine Willems le 25/2/2008</dc:description>
  <dc:language>en-US</dc:language>
  <cp:lastModifiedBy>ubb</cp:lastModifiedBy>
  <dcterms:modified xsi:type="dcterms:W3CDTF">2010-01-25T14:51:31Z</dcterms:modified>
  <cp:revision>21</cp:revision>
  <dc:subject/>
  <dc:title>Diapositivo 1</dc:title>
</cp:coreProperties>
</file>