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27E-BA88-4864-B4C7-4687F070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2AD-C756-4E68-A295-327F22E9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E8C-09AB-4511-9129-5CEB4DAB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393-9B37-49BC-AA4E-87A531FF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D89-72CB-407D-A92E-CD274634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FDF-D071-41D8-BF2C-5D77ACBD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96E-07B2-4268-AC9C-77FB3584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72E-3FCF-426B-835F-3ABBF587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E18-54ED-4D1B-8698-B1130CE2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334-C657-4731-B7B9-08C3C3D0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FF7-A5F6-42BD-BB74-BBCB72B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299-1B84-4EB1-ACE0-12A43C18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652B-8A7F-4454-9C16-37B15CB1D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152280"/>
            <a:ext cx="8686800" cy="655344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f2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21077400">
            <a:off x="1676160" y="2971440"/>
            <a:ext cx="625788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b0076"/>
                    </a:gs>
                    <a:gs pos="50000">
                      <a:srgbClr val="ffb953"/>
                    </a:gs>
                    <a:gs pos="100000">
                      <a:srgbClr val="3b0076"/>
                    </a:gs>
                  </a:gsLst>
                  <a:lin ang="13500000"/>
                </a:gradFill>
                <a:latin typeface="Impact"/>
              </a:rPr>
              <a:t>ИЗЦЕ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b0076"/>
                  </a:gs>
                  <a:gs pos="50000">
                    <a:srgbClr val="ffb953"/>
                  </a:gs>
                  <a:gs pos="100000">
                    <a:srgbClr val="3b0076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5880"/>
            <a:ext cx="7391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иблейски стихове за подкрепа на вашата вя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819520" y="457200"/>
            <a:ext cx="60195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Ако внимателно слушаш гласа на Господ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своя Бог, и вършиш онова, което Му е угодн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слушаш заповедите М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пазиш всичките Му наредби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010280" y="5334120"/>
            <a:ext cx="15242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зход 15:26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523880" y="609480"/>
            <a:ext cx="60962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няма да те поразя с нито една от болестит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с които поразих египтяните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защото Аз съм Господ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Който те изцелява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9880" y="556272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зход 15:26б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1176" t="14705" r="12356" b="147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2514600" y="45720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Защото ще ти възстановя здраве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ще те изцеля от раните ти, казва Госпо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410080" y="1828800"/>
            <a:ext cx="1524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еремия 30:17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7585" t="8620" r="6700" b="8620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62120" y="457200"/>
            <a:ext cx="716256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Но Той беше наранен поради нашите престъплен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беше бит поради нашите беззакония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върху Него дойде наказанието, донасящо нашия мир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с Неговите рани ние се изцелих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62920" y="6400800"/>
            <a:ext cx="14475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саия 53: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219320" y="914400"/>
            <a:ext cx="74674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Господ е сила на народа С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Той е крепост за избав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на помазаника С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9880" y="4648320"/>
            <a:ext cx="1447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салм 28:8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95280" y="4495680"/>
            <a:ext cx="6477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Много са неволите на праведния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Arial Black"/>
              </a:rPr>
              <a:t>но Господ го избавя от всички т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bbe0e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733920" y="632448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салом 34:1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-6000"/>
          </a:blip>
          <a:srcRect l="0" t="0" r="16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0" y="5410080"/>
            <a:ext cx="15238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Яков 5:14-1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609480"/>
            <a:ext cx="72388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молитвата, която е с вяр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ще избави страдалец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Господ ще го привдиг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ако е извършил грехов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ще му се простя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..............................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14400" y="34290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Голяма сила има усърдната молитва на праведния ч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23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3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9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447920" y="4876920"/>
            <a:ext cx="632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Той дава сила на отслабнал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9966"/>
                    </a:gs>
                  </a:gsLst>
                  <a:lin ang="5400000"/>
                </a:gradFill>
                <a:latin typeface="Arial Black"/>
              </a:rPr>
              <a:t>и умножава мощта на немощнит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99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33920" y="6553080"/>
            <a:ext cx="16761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Исаия 40:2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057560" y="1676520"/>
            <a:ext cx="4476960" cy="8856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002" t="6248" r="5002" b="875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52480" y="380880"/>
            <a:ext cx="58485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b5b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Той е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b5b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b5b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Който прощава всичките ти беззакони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b5b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b5bff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зцелява всичките ти болест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b5bff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86200" y="3048120"/>
            <a:ext cx="1676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салом 103: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33520" y="457200"/>
            <a:ext cx="6400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6161cb"/>
                    </a:gs>
                  </a:gsLst>
                  <a:lin ang="5400000"/>
                </a:gradFill>
                <a:latin typeface="Arial Black"/>
              </a:rPr>
              <a:t>Този сиромах извика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6161c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6161cb"/>
                    </a:gs>
                  </a:gsLst>
                  <a:lin ang="5400000"/>
                </a:gradFill>
                <a:latin typeface="Arial Black"/>
              </a:rPr>
              <a:t>и Господ го послу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6161c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6161cb"/>
                    </a:gs>
                  </a:gsLst>
                  <a:lin ang="5400000"/>
                </a:gradFill>
                <a:latin typeface="Arial Black"/>
              </a:rPr>
              <a:t>и от всичките му неволи го избав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6161c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2209680"/>
            <a:ext cx="2209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салм 34: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10476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143000" y="304920"/>
            <a:ext cx="7010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А на вас, които се боите от името М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ще изгрее Слънцето на правд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с изцеление в крилата с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ще излезете и ще се разиграете като телета из обо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9880" y="3200400"/>
            <a:ext cx="1524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Малахия 4: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934" t="5939" r="4049" b="5939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62120" y="609480"/>
            <a:ext cx="7696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Господи, Боже мой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звиках към Теб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и Ти си ме изцел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086600" y="2971800"/>
            <a:ext cx="1523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салм 30: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762120" y="22860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Господ е светлина моя и избавител мой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от кого ще се бо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Господ е сила на живота м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Arial Black"/>
              </a:rPr>
              <a:t>от кого ще се уплаш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ff993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9880" y="6324480"/>
            <a:ext cx="1676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Псалом 27: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mb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6T02:31:49Z</dcterms:created>
  <dc:creator>Martha</dc:creator>
  <dc:description>Copyright © 2007 Tommy's Window. 
All Rights Reserved
 DO NOT modify.</dc:description>
  <dc:language>en-US</dc:language>
  <cp:lastModifiedBy>ubb</cp:lastModifiedBy>
  <dcterms:modified xsi:type="dcterms:W3CDTF">2011-03-11T08:34:36Z</dcterms:modified>
  <cp:revision>61</cp:revision>
  <dc:subject>Russian translation by Gabi</dc:subject>
  <dc:title>Healing</dc:title>
</cp:coreProperties>
</file>