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ripples1.wav" ContentType="audio/x-wav"/>
  <Override PartName="/ppt/media/image8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9FE-2673-47E2-BF7E-966555A5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06B-1E2B-42B2-AAED-DD483269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464-560C-4771-BAA3-F95214DF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2243-22EF-4C5B-A71C-2B73894E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742-92A9-41F0-9B7A-D23CE1D7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6D8-3A69-4C22-A6DE-46460E59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EC0-7A59-4737-B6C9-9452183B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41C-9D31-47C7-BAB5-3F0EDBC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786-102F-4AEA-A4C4-D6491FB0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E47-95B7-4D60-905F-D0661518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DD4-4A07-458F-AF2E-0BDBAFEA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FE6-EE27-427E-AD21-9442DCF3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4097-ABDD-41F9-A91F-1FFD903B3C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pples1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donisblue2"/>
          <p:cNvPicPr/>
          <p:nvPr/>
        </p:nvPicPr>
        <p:blipFill>
          <a:blip r:embed="rId1"/>
          <a:srcRect l="9436" t="13609" r="9436" b="19572"/>
          <a:stretch/>
        </p:blipFill>
        <p:spPr>
          <a:xfrm>
            <a:off x="0" y="14436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684360" y="1268280"/>
            <a:ext cx="33670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ccffff"/>
                  </a:solidFill>
                  <a:miter/>
                </a:ln>
                <a:solidFill>
                  <a:srgbClr val="757ed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Пеперуда</a:t>
            </a:r>
            <a:endParaRPr b="0" lang="en-US" sz="2400" spc="1" strike="noStrike">
              <a:ln w="6480">
                <a:solidFill>
                  <a:srgbClr val="ccffff"/>
                </a:solidFill>
                <a:miter/>
              </a:ln>
              <a:solidFill>
                <a:srgbClr val="757ed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4932360" y="5202360"/>
            <a:ext cx="324000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ccffff"/>
                  </a:solidFill>
                  <a:miter/>
                </a:ln>
                <a:solidFill>
                  <a:srgbClr val="757ed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и Цвете</a:t>
            </a:r>
            <a:endParaRPr b="0" lang="en-US" sz="2400" spc="1" strike="noStrike">
              <a:ln w="6480">
                <a:solidFill>
                  <a:srgbClr val="ccffff"/>
                </a:solidFill>
                <a:miter/>
              </a:ln>
              <a:solidFill>
                <a:srgbClr val="757ed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!cid_005201c26550$79fb5a20$2101a8c0@c8h9p2"/>
          <p:cNvPicPr/>
          <p:nvPr/>
        </p:nvPicPr>
        <p:blipFill>
          <a:blip r:embed="rId2"/>
          <a:srcRect l="6100" t="27145" r="18290" b="2626"/>
          <a:stretch/>
        </p:blipFill>
        <p:spPr>
          <a:xfrm>
            <a:off x="0" y="3073320"/>
            <a:ext cx="5334120" cy="37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eacock_butterfly"/>
          <p:cNvPicPr/>
          <p:nvPr/>
        </p:nvPicPr>
        <p:blipFill>
          <a:blip r:embed="rId3"/>
          <a:stretch/>
        </p:blipFill>
        <p:spPr>
          <a:xfrm>
            <a:off x="5364000" y="836640"/>
            <a:ext cx="3353040" cy="3456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57200" y="476280"/>
            <a:ext cx="706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Имало едно време един човек, който помолил Бог 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979640" y="2344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едно цвет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651640" y="472140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.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и за една пеперуда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1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ctus__"/>
          <p:cNvPicPr/>
          <p:nvPr/>
        </p:nvPicPr>
        <p:blipFill>
          <a:blip r:embed="rId1"/>
          <a:srcRect l="0" t="0" r="116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43080" y="1793880"/>
            <a:ext cx="40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Но вместо това Бог му дал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Как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utterfly35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4775040" y="4437000"/>
            <a:ext cx="3542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.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и гъсеница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4000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68360" y="189000"/>
            <a:ext cx="69991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Човекът се натъжил и не разбирал защо желанието му не било изпълн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276720" y="1700280"/>
            <a:ext cx="55544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Тогава си помислил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,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добр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ог има толкова много хора, за които да се грижи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826920" y="3716280"/>
            <a:ext cx="4464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И решил да не Го безпокои повече със своето желани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042920" y="5445000"/>
            <a:ext cx="7559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След известно време човекът си спомнил за нещата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bg-BG" sz="2800" spc="-1" strike="noStrike">
                <a:solidFill>
                  <a:srgbClr val="ffffff"/>
                </a:solidFill>
                <a:latin typeface="Times New Roman"/>
              </a:rPr>
              <a:t>които получил от Бога и отишъл да провери какво се е случило с тях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4000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239_poster405"/>
          <p:cNvPicPr/>
          <p:nvPr/>
        </p:nvPicPr>
        <p:blipFill>
          <a:blip r:embed="rId1"/>
          <a:srcRect l="0" t="0" r="0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826920" y="333360"/>
            <a:ext cx="748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За своя изненада, той забелязал, че от трънливият и грозен кактус се е появил прекрасен и уханен цвя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55640" y="5386320"/>
            <a:ext cx="770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А противната гъсеница се била превърнала в много красива пеперуда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borb007"/>
          <p:cNvPicPr/>
          <p:nvPr/>
        </p:nvPicPr>
        <p:blipFill>
          <a:blip r:embed="rId2"/>
          <a:stretch/>
        </p:blipFill>
        <p:spPr>
          <a:xfrm>
            <a:off x="4211640" y="2060640"/>
            <a:ext cx="3255840" cy="273672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ightning%20over%20Dauphin%20Is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900000" y="33336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ОГ винаги върши правилните неща!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68360" y="155736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еговият път ВИНАГИ е най-добрият път, дори когато в нашите  очи той изглежда греше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3141720"/>
            <a:ext cx="860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Ако поискате от Бога едно нещо, а получите дру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ДОВЕРЕТЕ С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9640" y="5300640"/>
            <a:ext cx="81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ъдете сигурни, че Той винаги ви дава това, от което се нуждаете в най-подходящото врем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3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2" nodeType="afterEffect" fill="hold" presetClass="entr" presetID="17" presetSubtype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4659_poster405"/>
          <p:cNvPicPr/>
          <p:nvPr/>
        </p:nvPicPr>
        <p:blipFill>
          <a:blip r:embed="rId1"/>
          <a:srcRect l="0" t="0" r="0" b="100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900000" y="260280"/>
            <a:ext cx="4967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Това, което искат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556000" y="1125360"/>
            <a:ext cx="5688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...</a:t>
            </a: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не винаги е това, от което се нуждаете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68360" y="2508120"/>
            <a:ext cx="8424720" cy="133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ог никога не пропуска да отговори на нашите молби, така че пазете се от съмнения и недоволства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087640" y="3951360"/>
            <a:ext cx="49323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Днес може да са 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ТРЪНИ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050920" y="5373720"/>
            <a:ext cx="5185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но утре ще бъде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bg-BG" sz="4000" spc="-1" strike="noStrike">
                <a:solidFill>
                  <a:srgbClr val="ffffff"/>
                </a:solidFill>
                <a:latin typeface="Times New Roman"/>
              </a:rPr>
              <a:t>ЦВЕТЕ</a:t>
            </a: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!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5" presetSubtype="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6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7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4659_poster405"/>
          <p:cNvPicPr/>
          <p:nvPr/>
        </p:nvPicPr>
        <p:blipFill>
          <a:blip r:embed="rId1"/>
          <a:srcRect l="0" t="0" r="0" b="100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1619280" y="4005360"/>
            <a:ext cx="5905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Times New Roman"/>
              </a:rPr>
              <a:t>БОГ ДА ВИ БЛАГОСЛОВИ</a:t>
            </a: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755640" y="54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Times New Roman"/>
              </a:rPr>
              <a:t>БОГ дава най-доброто на този, който оставя изборът в НЕГОВИТЕ ръц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15:27Z</dcterms:created>
  <dc:creator/>
  <dc:description/>
  <dc:language>en-US</dc:language>
  <cp:lastModifiedBy>ubb</cp:lastModifiedBy>
  <dcterms:modified xsi:type="dcterms:W3CDTF">2010-11-02T14:22:40Z</dcterms:modified>
  <cp:revision>54</cp:revision>
  <dc:subject/>
  <dc:title>Apresentação do PowerPoint</dc:title>
</cp:coreProperties>
</file>