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D44-9098-4A85-B194-751E9C04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E38-287C-441C-A97E-F4F256BA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DD7-D4F5-4887-8EDA-5F24DA57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F30-01C3-4CC5-A28E-27A259B5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B75-3445-4A6F-82E5-7A3CBA6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9E0-5052-44E7-9950-ECC964C7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710-330C-4FE1-B7D5-69D247B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BE0-A940-43B2-BE25-3A8597EC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7D9-6D6A-4B1C-BB12-F707F219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9CB-664F-42E9-91D5-013CD159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CBF-6373-41CB-9B9D-F5F265A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2E8-B857-41FA-9993-6FEAC958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26ED-729B-41D5-BF1D-E185E441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>
            <a:lum bright="-6000"/>
          </a:blip>
          <a:srcRect l="0" t="0" r="0" b="4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>
            <a:lum bright="-6000"/>
          </a:blip>
          <a:srcRect l="0" t="0" r="0" b="4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133720" y="2666880"/>
            <a:ext cx="601956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50000">
                      <a:srgbClr val="6d90ff"/>
                    </a:gs>
                    <a:gs pos="100000">
                      <a:srgbClr val="003366"/>
                    </a:gs>
                  </a:gsLst>
                  <a:lin ang="13500000"/>
                </a:gradFill>
                <a:latin typeface="Impact"/>
              </a:rPr>
              <a:t>Псалом 9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50000">
                    <a:srgbClr val="6d90ff"/>
                  </a:gs>
                  <a:gs pos="100000">
                    <a:srgbClr val="003366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med" advTm="10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042" t="3341" r="3042" b="334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57200" y="380880"/>
            <a:ext cx="4876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Ще настъпиш лъв и аспид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ще стъпчеш млад лъв и зм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990720" y="304920"/>
            <a:ext cx="7619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Понеже той е положил в Мене любовта с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казва Господ, затова ще го избавя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ще го поставя в безопаснос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защото е познал името 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 txBox="1"/>
          <p:nvPr/>
        </p:nvSpPr>
        <p:spPr>
          <a:xfrm>
            <a:off x="457200" y="4419720"/>
            <a:ext cx="4952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Той ще Ме призове и Аз ще го послушам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с него ще съм, когато е в бедствие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ще го избавя и ще го прослав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99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"/>
          <p:cNvSpPr txBox="1"/>
          <p:nvPr/>
        </p:nvSpPr>
        <p:spPr>
          <a:xfrm>
            <a:off x="990720" y="2666880"/>
            <a:ext cx="7162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Ще го наситя с дългоден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ще му покажа спасениет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което вър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3000">
    <p:push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533520" y="380880"/>
            <a:ext cx="37335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Който живее под покри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а Всевиш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той ще пребъдва под сянк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а Всемогъщ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4724280" y="304920"/>
            <a:ext cx="3962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Ще казвам за Господ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Той е прибежище мое и крепост мо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Бог мой, на Когото уповава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416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4952880" y="4800600"/>
            <a:ext cx="3733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Защото Той ще те избавя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примката на лове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от гибелен м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3657600" y="4419720"/>
            <a:ext cx="5181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С перата Си ще те покрив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под крилете Му ще се скриеш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еговата вярност е щит и закри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164" t="4050" r="3164" b="1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380880" y="380880"/>
            <a:ext cx="3810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яма да се боиш от нощен стра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от стрелата, която лети дене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52480" y="56386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от мор, който идва в тъмнин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от погибел, която опустошава сред плад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304920" y="380880"/>
            <a:ext cx="3962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Хиляда души ще падат от страната 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десет хиляди - до десницата т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о при тебе няма да се приближ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28800" y="56386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Само с очите си ще глед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ще видиш възмездието на нечестивит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380880" y="304920"/>
            <a:ext cx="4419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Понеже ти си казал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Господ е мое прибежищ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и си направил Всевишния свое обиталищ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57600" y="4724280"/>
            <a:ext cx="4952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затова няма да те сполети никакво зл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ито ще се приближи язва до шатъра 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0880" y="380880"/>
            <a:ext cx="4572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Защото ще заповяда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ангелите Си за те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да те пазят във всичките ти пътищ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00200" y="518148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а ръце ще те вдига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да не би да удариш о камък крака с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0000">
    <p:push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59:57Z</dcterms:created>
  <dc:creator>Martha</dc:creator>
  <dc:description>Copyright © 2007 Tommy's Window. 
All Rights Reserved
 DO NOT modify.</dc:description>
  <dc:language>en-US</dc:language>
  <cp:lastModifiedBy>ubb</cp:lastModifiedBy>
  <dcterms:modified xsi:type="dcterms:W3CDTF">2010-11-03T15:13:30Z</dcterms:modified>
  <cp:revision>33</cp:revision>
  <dc:subject>Russian translation by Gabi</dc:subject>
  <dc:title>Psalm 91</dc:title>
</cp:coreProperties>
</file>