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0F3-AD81-41E9-B84F-69953800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1EF-A684-437F-92AA-6155CA69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F90-BA5B-4F1C-8F03-808EBE60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1B2-69C2-4340-BBBB-D672DE3A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E30-F4EA-4566-B801-202BA14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0F5-F77F-4112-8F5A-77FD58F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61D-ECB5-46F2-AE44-65E1C90E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B68-091D-4D23-9401-738064A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B27-ADC1-431D-9931-CDD89FFF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D4A-94A0-4C74-8949-9440DEE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AC6-2768-4360-8C4E-6324834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72B-FBFE-4B6F-BEE0-6E4686B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E34C-63B3-4F0B-A09C-485D6D07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 161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3" descr="Jesusberger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5105520" y="5181480"/>
            <a:ext cx="359568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2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2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5574750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WordArt 4"/>
          <p:cNvSpPr txBox="1"/>
          <p:nvPr/>
        </p:nvSpPr>
        <p:spPr>
          <a:xfrm>
            <a:off x="1828800" y="60948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Господ е Пастир 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яма да остана в нуж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6000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18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driving-green-pastures-with-sheep"/>
          <p:cNvPicPr/>
          <p:nvPr/>
        </p:nvPicPr>
        <p:blipFill>
          <a:blip r:embed="rId1"/>
          <a:srcRect l="1162" t="43752" r="1162" b="7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WordArt 2"/>
          <p:cNvSpPr txBox="1"/>
          <p:nvPr/>
        </p:nvSpPr>
        <p:spPr>
          <a:xfrm>
            <a:off x="1714680" y="838080"/>
            <a:ext cx="5752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а зелени пасбища ме успокояв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при тихи води ме завеж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4877842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8"/>
          <p:cNvSpPr txBox="1"/>
          <p:nvPr/>
        </p:nvSpPr>
        <p:spPr>
          <a:xfrm>
            <a:off x="1600200" y="4114800"/>
            <a:ext cx="670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Освежава душата м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8000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4474344-md"/>
          <p:cNvPicPr/>
          <p:nvPr/>
        </p:nvPicPr>
        <p:blipFill>
          <a:blip r:embed="rId1">
            <a:lum bright="-6000"/>
          </a:blip>
          <a:srcRect l="3164" t="4641" r="3164" b="46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WordArt 5"/>
          <p:cNvSpPr txBox="1"/>
          <p:nvPr/>
        </p:nvSpPr>
        <p:spPr>
          <a:xfrm>
            <a:off x="1295280" y="4191120"/>
            <a:ext cx="6324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води ме през прави пъте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ради името С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20000"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8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5495590-md"/>
          <p:cNvPicPr/>
          <p:nvPr/>
        </p:nvPicPr>
        <p:blipFill>
          <a:blip r:embed="rId1">
            <a:lum bright="-6000"/>
          </a:blip>
          <a:srcRect l="1399" t="995" r="1399" b="9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WordArt 2"/>
          <p:cNvSpPr txBox="1"/>
          <p:nvPr/>
        </p:nvSpPr>
        <p:spPr>
          <a:xfrm>
            <a:off x="1066680" y="137160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c5c8a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Да! И в долината на мрачната сянка ако ход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c5c8a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c5c8a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яма да се уплаша от зло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c5c8a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c5c8a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щото Ти си с мен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c5c8a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c5c8a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Твоят жезъл и Твоята тояга - те ме утешава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c5c8a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29000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5524622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WordArt 2"/>
          <p:cNvSpPr txBox="1"/>
          <p:nvPr/>
        </p:nvSpPr>
        <p:spPr>
          <a:xfrm>
            <a:off x="1523880" y="3124080"/>
            <a:ext cx="6019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Приготвяш пред мене трапе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в присъствието на неприятелите м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помазал си с миро главата м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чашата ми прели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12000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5568225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2"/>
          <p:cNvSpPr txBox="1"/>
          <p:nvPr/>
        </p:nvSpPr>
        <p:spPr>
          <a:xfrm>
            <a:off x="1066680" y="2895480"/>
            <a:ext cx="6705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аистина благост и милост ще ме следв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през всичките дни на живота м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аз ще живея завинаги в дома Господ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48000"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31:49Z</dcterms:created>
  <dc:creator>Martha</dc:creator>
  <dc:description>Copyright © 2007 Tommy's Window. 
All Rights Reserved
 DO NOT modify.</dc:description>
  <dc:language>en-US</dc:language>
  <cp:lastModifiedBy>ubb</cp:lastModifiedBy>
  <dcterms:modified xsi:type="dcterms:W3CDTF">2010-11-03T15:01:59Z</dcterms:modified>
  <cp:revision>45</cp:revision>
  <dc:subject>Armenian translation</dc:subject>
  <dc:title>Psalm 23</dc:title>
</cp:coreProperties>
</file>