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Chopin%20-%20Tristesse%20(piano)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382-1AAD-4B7A-BB08-77E36290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752-DC0B-4EC4-AD1B-DB6F9ACC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CE6-1FC6-4744-8C31-35FD1AEA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B2A-442D-41D0-8D7D-D92F914A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F19-6505-4CA0-9704-0E9C73A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480-FC5C-4E20-AFDF-62786C7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534-24C5-414B-80B9-3DCF45F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5E3-FB74-4AA8-BDDF-F9A38143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BA7-4A82-47AC-A6A7-AD2FC56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112-D86D-4808-BE9B-813E393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EE9-7393-46D3-85B8-5B0B17F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4E3-D7D6-4AD7-97FB-AAAD4B3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111-34D6-4BEA-932F-10D973590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hopin%20-%20Tristesse%20(piano).wav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opin%20-%20Tristesse%20(piano)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1066680"/>
            <a:ext cx="830592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Истината за жив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8000">
    <p:fade/>
    <p:sndAc>
      <p:stSnd>
        <p:snd r:embed="rId2" name="Chopin%20-%20Tristesse%20(piano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a8c1d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755" b="1252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3809880" y="6094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края разбираме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 всичк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лучило се на пътя ни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81080" y="4724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е било на практика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24080" y="5562720"/>
            <a:ext cx="3733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a8c1d4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инския живот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a8c1d4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5000">
    <p:fade/>
    <p:sndAc>
      <p:stSnd>
        <p:snd r:embed="rId8" name="Chopin%20-%20Tristesse%20(piano)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9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43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04920" y="15228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ътят към щастието е път към сближаване с Тоз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йто е Източникът му, нашия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воре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  <p:sndAc>
      <p:stSnd>
        <p:snd r:embed="rId2" name="Chopin%20-%20Tristesse%20(piano)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34920">
            <a:solidFill>
              <a:srgbClr val="ff6600"/>
            </a:solidFill>
            <a:round/>
          </a:ln>
        </p:spPr>
      </p:pic>
      <p:sp>
        <p:nvSpPr>
          <p:cNvPr id="72" name=""/>
          <p:cNvSpPr/>
          <p:nvPr/>
        </p:nvSpPr>
        <p:spPr>
          <a:xfrm>
            <a:off x="0" y="30492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ъди благодарен на всеки момент, който Бог ти е подари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  <p:sndAc>
      <p:stSnd>
        <p:snd r:embed="rId2" name="Chopin%20-%20Tristesse%20(piano)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C&amp;L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51055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ие се са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беждаваме, че живот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ъ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ще стане по-добър, когато се оженим, когато имаме дете, а след това и втор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  <p:sndAc>
      <p:stSnd>
        <p:snd r:embed="rId2" name="Chopin%20-%20Tristesse%20(piano)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191280" cy="4127400"/>
          </a:xfrm>
          <a:prstGeom prst="rect">
            <a:avLst/>
          </a:prstGeom>
          <a:ln w="225360">
            <a:solidFill>
              <a:srgbClr val="9933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57200" y="4952880"/>
            <a:ext cx="830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ле ние се разстройваме от това, че децата ни са все още мал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се надяваме, че всичко ще се оправи, когато те пораснат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  <p:sndAc>
      <p:stSnd>
        <p:snd r:embed="rId2" name="Chopin%20-%20Tristesse%20(piano)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80880"/>
            <a:ext cx="8610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лед това нашата грижа е, н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к си да се справим с тях. Несъмнено ние ще ста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-щастли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огато те излязат от своите «...айсет» години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5981760" cy="46483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  <p:sndAc>
      <p:stSnd>
        <p:snd r:embed="rId2" name="Chopin%20-%20Tristesse%20(piano)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амоуспокояваме се, че животът ни ще се подобри, когато съпругът или съпругата ни разреши своите проблеми в работата си, </a:t>
            </a:r>
            <a:r>
              <a:rPr b="1" lang="bg-BG" sz="3200" spc="-1" strike="noStrike">
                <a:solidFill>
                  <a:srgbClr val="cc0000"/>
                </a:solidFill>
                <a:latin typeface="Times New Roman"/>
              </a:rPr>
              <a:t>когато си купим по-красива кола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bg-BG" sz="3200" spc="-1" strike="noStrike">
                <a:solidFill>
                  <a:srgbClr val="66ccff"/>
                </a:solidFill>
                <a:latin typeface="Times New Roman"/>
              </a:rPr>
              <a:t>когато си вземем отпуската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, когато се </a:t>
            </a:r>
            <a:r>
              <a:rPr b="1" lang="bg-BG" sz="3200" spc="-1" strike="noStrike">
                <a:solidFill>
                  <a:srgbClr val="ffff00"/>
                </a:solidFill>
                <a:latin typeface="Times New Roman"/>
              </a:rPr>
              <a:t>пенсионираме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876840"/>
            <a:ext cx="4191120" cy="29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2819520" cy="2114640"/>
          </a:xfrm>
          <a:prstGeom prst="rect">
            <a:avLst/>
          </a:prstGeom>
          <a:ln w="22320">
            <a:solidFill>
              <a:srgbClr val="ffff00"/>
            </a:solidFill>
            <a:miter/>
          </a:ln>
        </p:spPr>
      </p:pic>
    </p:spTree>
  </p:cSld>
  <p:transition spd="slow" advTm="20000">
    <p:fade/>
    <p:sndAc>
      <p:stSnd>
        <p:snd r:embed="rId4" name="Chopin%20-%20Tristesse%20(piano)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6000"/>
          </a:blip>
          <a:srcRect l="4049" t="6826" r="4049" b="6826"/>
          <a:stretch/>
        </p:blipFill>
        <p:spPr>
          <a:xfrm>
            <a:off x="0" y="0"/>
            <a:ext cx="8001000" cy="677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4816440"/>
            <a:ext cx="4267080" cy="2043720"/>
          </a:xfrm>
          <a:prstGeom prst="rec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стината е, че няма по-добро време </a:t>
            </a:r>
            <a:r>
              <a:rPr b="1" lang="bg-BG" sz="3200" spc="-1" strike="noStrike">
                <a:solidFill>
                  <a:srgbClr val="cc0000"/>
                </a:solidFill>
                <a:latin typeface="Times New Roman"/>
              </a:rPr>
              <a:t>от днес, за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да се чувстваме щастл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  <p:sndAc>
      <p:stSnd>
        <p:snd r:embed="rId2" name="Chopin%20-%20Tristesse%20(piano)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6" descr="ratz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2880" y="1752480"/>
            <a:ext cx="39625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Животът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ни винаги ще е пълен с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дизвикателства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. По-добре е да приемем нещата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такива, каквито са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, и да решим да бъдем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щастливи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сега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  <p:sndAc>
      <p:stSnd>
        <p:snd r:embed="rId2" name="Chopin%20-%20Tristesse%20(piano)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Jaś\Oracle\Karav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"/>
            <a:ext cx="758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 дълго време очакваме, че животът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ей сег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ще започ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  <p:sndAc>
      <p:stSnd>
        <p:snd r:embed="rId2" name="Chopin%20-%20Tristesse%20(piano)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2349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о </a:t>
            </a: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винаги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на пътя се е явявало някакво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епятствие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урово изпитание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, което е трябвало да преминем, </a:t>
            </a:r>
            <a:r>
              <a:rPr b="1" lang="ru-RU" sz="2800" spc="-1" strike="noStrike">
                <a:solidFill>
                  <a:srgbClr val="99cc00"/>
                </a:solidFill>
                <a:latin typeface="Times New Roman"/>
              </a:rPr>
              <a:t>работа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, която да довършим,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време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, което да посветим,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ълг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, който да изпъл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след това ще заживеем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  <p:sndAc>
      <p:stSnd>
        <p:snd r:embed="rId2" name="Chopin%20-%20Tristesse%20(piano)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5:18:39Z</dcterms:created>
  <dc:creator>Whom Ever</dc:creator>
  <dc:description/>
  <dc:language>en-US</dc:language>
  <cp:lastModifiedBy>ubb</cp:lastModifiedBy>
  <dcterms:modified xsi:type="dcterms:W3CDTF">2011-02-17T08:52:45Z</dcterms:modified>
  <cp:revision>25</cp:revision>
  <dc:subject/>
  <dc:title>Slide 1</dc:title>
</cp:coreProperties>
</file>