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A06-8B22-4C85-957C-29794D8C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C80-D506-4085-9018-F259043E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FB8-C4B7-4703-85A0-F9555DB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51F-515D-4BD1-905F-9ABB2693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227-F213-46F9-95AB-4B752084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7AA-DD6C-46E1-B127-EC40BB19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AB9-B541-45B0-BB75-2C61A06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6E0-7415-4130-8824-B738A612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C64-4AB6-4805-B7F8-E8ADD4C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DA9-AA1C-4712-B004-BA17DFD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A9A-5BB4-4C43-82D0-EA4C321C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721-A301-4AEA-B08B-AF4C48B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73C0-B312-4CF6-8553-364E4D98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bg/imgres?imgurl=http://plainview.files.wordpress.com/2009/01/not-waving-but-drowning.jpg&amp;imgrefurl=http://plainview.wordpress.com/2009/01/31/it-would-employ-a-full-range-of-tools-to-get-credit-flowing-again-to-families-and-businesses/&amp;usg=__Wn1yEMH3jWMpxL4bPVy-bkI62XI=&amp;h=800&amp;w=600&amp;sz=33&amp;hl=bg&amp;start=19&amp;sig2=qpuaVBIbp71-ZAh7m2qGRg&amp;tbnid=6G-QhrGT6pEi6M:&amp;tbnh=143&amp;tbnw=107&amp;prev=/images%3Fq%3Ddrown%25D0%25B8%25D0%25BD%25D0%25B3%26gbv%3D2%26ndsp%3D18%26hl%3Dbg%26sa%3DN%26start%3D18&amp;ei=SUZMS_vYEoXhsAa3ke3UCw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4.bp.blogspot.com/_kBCey2S-D_k/SdbdXuWxU7I/AAAAAAAAAJQ/NxmD10G398o/s1600-h/Walking+With+Jesus+PMS-J7p.jp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5661000"/>
            <a:ext cx="4391280" cy="1440000"/>
          </a:xfrm>
          <a:prstGeom prst="rect">
            <a:avLst/>
          </a:prstGeom>
          <a:solidFill>
            <a:srgbClr val="e3da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5300640"/>
            <a:ext cx="4464000" cy="2064600"/>
          </a:xfrm>
          <a:prstGeom prst="rect">
            <a:avLst/>
          </a:prstGeom>
          <a:solidFill>
            <a:srgbClr val="ffcc99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Не плачи..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000000"/>
                </a:solidFill>
                <a:latin typeface="Comic Sans MS"/>
              </a:rPr>
              <a:t>виж, Бог го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259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g-BG" sz="2800" spc="-1" strike="noStrike">
                <a:solidFill>
                  <a:srgbClr val="990099"/>
                </a:solidFill>
                <a:latin typeface="Arial"/>
              </a:rPr>
              <a:t>Смили се за мене, Господи, защото съм в утеснение,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990099"/>
                </a:solidFill>
                <a:latin typeface="Arial"/>
              </a:rPr>
              <a:t>Чезне от скръб окото ми, душата ми, и снагата ми. Защото се изнури в тъга живота ми, и годините ми във въздишки;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990099"/>
                </a:solidFill>
                <a:latin typeface="Arial"/>
              </a:rPr>
              <a:t>Поради престъплението ми отслабна силата ми, И костите ми изнемощя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i="1" lang="bg-BG" sz="2800" spc="-1" strike="noStrike">
                <a:solidFill>
                  <a:srgbClr val="990099"/>
                </a:solidFill>
                <a:latin typeface="Arial"/>
              </a:rPr>
              <a:t>Пс.31:9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816280"/>
            <a:ext cx="4427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Не бой се, защото Аз те изкупих, Призовах те по име; Мой си 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сая 43:2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jesus-christ-emo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8748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ослушай, Господи, молитвата ми, и дай ухо на вика ми; Не премълчавай при сълзите ми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Защото съм странен при Тебе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Пс.39:1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 бой се, защото Аз съм с тебе; Не се ужасявай, защото Аз съм твой Бог; Ще те укрепя, да! ще ти помогна. Да! ще те подпра с праведната Си десница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с. 41:10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9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0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189080" y="-20520"/>
            <a:ext cx="10333080" cy="6878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ffcc"/>
                </a:solidFill>
                <a:latin typeface="Arial"/>
              </a:rPr>
              <a:t>Бори се, Господи, с ония, които се борят с мене;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bg-BG" sz="2400" spc="-1" strike="noStrike">
                <a:solidFill>
                  <a:srgbClr val="ffffcc"/>
                </a:solidFill>
                <a:latin typeface="Arial"/>
              </a:rPr>
              <a:t>Воювай против ония, които воюват против мене.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bg-BG" sz="2400" spc="-1" strike="noStrike">
                <a:solidFill>
                  <a:srgbClr val="ffffcc"/>
                </a:solidFill>
                <a:latin typeface="Arial"/>
              </a:rPr>
              <a:t>Вземи оръжие и щит и стани да ми помагаш. Изтръгни и копие, та затвори пътя на гонителите ми; Кажи на душата ми: Аз съм избавител Твой. </a:t>
            </a:r>
            <a:br>
              <a:rPr sz="2400"/>
            </a:b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bg-BG" sz="2400" spc="-1" strike="noStrike">
                <a:solidFill>
                  <a:srgbClr val="ffffcc"/>
                </a:solidFill>
                <a:latin typeface="Arial"/>
              </a:rPr>
              <a:t>Пс.35:1,2,3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260280"/>
            <a:ext cx="7559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Ще заповяда на ангелите Си за тебе да те пазят във всичките ти пътища. На ръце ще те дигат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Да не би да удариш о камък ногата си. С перата Си ще те покри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с.91:11,4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114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Тогава, като изново размишлявах всичките угнетения, които стават под слънцет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,И видях сълзите на угнетяваните, че нямаше за тях утешите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и че силата беше в ръката на ония, които ги угнетяваха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а за тях нямаше утешите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Еклес.4:1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Аз, Аз съм, Който ви утешавам; Кой си ти та се боиш от смъртен човек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 от човешки син, който ще стане като трева; а си забравил Господа Създателя си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сая 51: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8840" y="3645000"/>
            <a:ext cx="2405160" cy="3213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Избави ме, Боже;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Защото водите стигнаха до душата ми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Потъвам в дълбока тиня, гдето няма твърдо място да застана;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Стигнах в дълбоки води, гдето потопът ме покрива. Изнемогвам от викане; гърлото ми е изсъхнало; Очите ми чезнат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Пс.69:1,2,3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465264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Не бой се, Когато минаваш през водите, с тебе ще бъда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 през реките, те не ще те потоп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с.43:2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3dab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3dab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421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720" y="3715920"/>
            <a:ext cx="4643280" cy="3141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Окаян аз човек! кой ще ме избави от тялото на тая смърт?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им.7: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Дните на живота ни са естествено седемдесет години или даже, гдето има сила, осемдесет години;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но и най-добрите от тях са </a:t>
            </a: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труд и скръб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с.90:10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713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932360" cy="4525920"/>
          </a:xfrm>
          <a:prstGeom prst="rect">
            <a:avLst/>
          </a:prstGeom>
          <a:solidFill>
            <a:srgbClr val="99cc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Даже до старостта ви ,Аз съм същият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и докато побелеете, Аз ще ви нося аз ви направих, и Аз ще ви държа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Да! Аз ще ви нося и избавя.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с.46:4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932360" cy="68580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омни, че ние сме пръст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Дните на човека са като трева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Като полски цвят, така цъфти. Защото като преминава вятърът над него, и няма го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И мястото му го не познава вече</a:t>
            </a:r>
            <a:r>
              <a:rPr b="0" i="1" lang="bg-BG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Пс.103:14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22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23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700"/>
                            </p:stCondLst>
                            <p:childTnLst>
                              <p:par>
                                <p:cTn id="32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27" dur="500" autoRev="1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28" dur="500" autoRev="1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600"/>
                            </p:stCondLst>
                            <p:childTnLst>
                              <p:par>
                                <p:cTn id="3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500" autoRev="1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0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Господ Той е , Който прощава всичките ти беззакония, Изцелява всичките ти болести; Който изкупва от рова живота ти, Венчава те с милосърдие и благи милости; </a:t>
            </a:r>
            <a:br>
              <a:rPr sz="32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с.103:3,4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3247920"/>
            <a:ext cx="61912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76000" y="1052640"/>
            <a:ext cx="3492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2800" spc="-1" strike="noStrike">
                <a:solidFill>
                  <a:srgbClr val="ff0000"/>
                </a:solidFill>
                <a:latin typeface="Arial"/>
              </a:rPr>
              <a:t>Защото Бог толкова възлюби света, че даде Своя Единороден Син, за да не погине ни един, който вярва в Него, но да има вечен живо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6453360"/>
            <a:ext cx="3492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6524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Йоан 3:16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252360" y="0"/>
            <a:ext cx="42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И видях ново небе и нова земя; защото първото небе и първата земя преминаха; и море нямаше вече. Видях и светия град, новия Ерусалим, да слиза из небето от Бога, приготвен като невеста украсена за мъжа си. И чух силен глас от престола, който казваше: Ето, скинията на Бога е с човеците; Той ще обитава с тях; те ще бъдат Негови люде; и сам Бог, техен Бог, ще бъде с тях. Той ще обърше всяка сълза от очите им, и смърт не ще има вече; нито ще има вече жалеене, ни плач, ни болка; първото премина. И Седящият на престола рече: Ето, подновявам всичко. И каза: Напиши, защото тия думи са верни и истинни. И рече ми: Сбъднаха се... На жадния ще дам даром от извора на водата на живота. Който побеждава, ще наследи тия неща; Аз ще му бъда Бог, и той ще Ми бъде син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Откр.21:1-7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5384880"/>
            <a:ext cx="8229600" cy="1473120"/>
          </a:xfrm>
          <a:prstGeom prst="rect">
            <a:avLst/>
          </a:prstGeom>
          <a:solidFill>
            <a:srgbClr val="0033cc">
              <a:alpha val="7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то, ида скоро; и у Мене е наградата, която давам Аз съм Алфа и Омега, първият и последният, началото и края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1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000" spc="-1" strike="noStrike">
                <a:solidFill>
                  <a:srgbClr val="ffffff"/>
                </a:solidFill>
                <a:latin typeface="Arial"/>
              </a:rPr>
              <a:t>Амин! Дойди, Господи Исусе! </a:t>
            </a: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Откр.22:1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Но Господ Бог повика човека и му реч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1" i="1" lang="bg-BG" sz="4000" spc="-1" strike="noStrike">
                <a:solidFill>
                  <a:srgbClr val="cc6600"/>
                </a:solidFill>
                <a:latin typeface="Arial"/>
              </a:rPr>
              <a:t>Где си?</a:t>
            </a:r>
            <a:r>
              <a:rPr b="1" i="1" lang="en-US" sz="40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cc6600"/>
                </a:solidFill>
                <a:latin typeface="Arial"/>
              </a:rPr>
              <a:t>Бит.3: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632720" cy="6869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47640" y="5589720"/>
            <a:ext cx="6696360" cy="118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А той рече: Кой си Ти, Господи?</a:t>
            </a: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Деян.9:5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4520" cy="775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69000"/>
            <a:ext cx="8353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Благодатен и жалостив е Госп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Дълготърпелив и многомилостив</a:t>
            </a: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с.145:8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080" y="39600"/>
            <a:ext cx="778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Аз съм Господ, и няма друг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Няма бог освен Мене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сая 45: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5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bg-BG" sz="3200" spc="-1" strike="noStrike">
                <a:solidFill>
                  <a:srgbClr val="ffff00"/>
                </a:solidFill>
                <a:latin typeface="Arial"/>
              </a:rPr>
              <a:t>Боже мой, Боже мой, защо си ме оставил?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e3dabb"/>
                </a:solidFill>
                <a:latin typeface="Arial"/>
              </a:rPr>
              <a:t>Защо стоиш далеч и не ми помагаш,</a:t>
            </a:r>
            <a:r>
              <a:rPr b="1" i="1" lang="ru-RU" sz="3200" spc="-1" strike="noStrike">
                <a:solidFill>
                  <a:srgbClr val="e3dabb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e3dabb"/>
                </a:solidFill>
                <a:latin typeface="Arial"/>
              </a:rPr>
              <a:t>Нито внимаваш на думите на охкането ми, ....</a:t>
            </a:r>
            <a:r>
              <a:rPr b="1" i="1" lang="en-US" sz="3200" spc="-1" strike="noStrike">
                <a:solidFill>
                  <a:srgbClr val="e3dabb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На Тебе бях оставен от рождението си;</a:t>
            </a: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o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т утробат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майка ми Ти 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cc6600"/>
                </a:solidFill>
                <a:latin typeface="Arial"/>
              </a:rPr>
              <a:t>мой Бог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Да 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не отдалечи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от мене; защ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скръбта е близо,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Понеже ня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99cc00"/>
                </a:solidFill>
                <a:latin typeface="Arial"/>
              </a:rPr>
              <a:t>помощ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bg-BG" sz="2800" spc="-1" strike="noStrike">
                <a:solidFill>
                  <a:srgbClr val="808080"/>
                </a:solidFill>
                <a:latin typeface="Arial"/>
              </a:rPr>
              <a:t>Пс.22:1,10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6432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184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4643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cc"/>
                </a:solidFill>
                <a:latin typeface="Arial"/>
              </a:rPr>
              <a:t>Може ли жена да забрави сучещото си дете,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33cc"/>
                </a:solidFill>
                <a:latin typeface="Arial"/>
              </a:rPr>
              <a:t>Та да се не смили за чадото на утробата си? Обаче те, ако и да забравят, Аз все пак няма да те забравя.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33cc"/>
                </a:solidFill>
                <a:latin typeface="Arial"/>
              </a:rPr>
              <a:t>Ето, на дланите Си съм те вряз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0033cc"/>
                </a:solidFill>
                <a:latin typeface="Arial"/>
              </a:rPr>
              <a:t>Исая 49:15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До кога щеш, Господи, съвсем да ме забравиш? До кога ще криеш лицето Си от мене? До кога ще имам борба в душата Си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Болки в сърцето Си всеки ден? До кога ще се превъзнася неприятелят ми над мене? Погледни, послушай ме</a:t>
            </a: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Господи Боже мой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с.13:1,2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80880" y="4305240"/>
            <a:ext cx="9524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5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4" dur="5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166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71640" y="2924280"/>
            <a:ext cx="4248360" cy="3080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Господ, Той е, Който ходи пред тебе, Той ще бъде с тебе; не ще отстъпи от тебе нито ще те остави; не бой се, нито се страхува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тор.31:8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2640" y="3424320"/>
            <a:ext cx="18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7:31:23Z</dcterms:created>
  <dc:creator>ubb</dc:creator>
  <dc:description/>
  <dc:language>en-US</dc:language>
  <cp:lastModifiedBy>ubb</cp:lastModifiedBy>
  <dcterms:modified xsi:type="dcterms:W3CDTF">2010-01-18T09:06:51Z</dcterms:modified>
  <cp:revision>56</cp:revision>
  <dc:subject/>
  <dc:title>Slide 1</dc:title>
</cp:coreProperties>
</file>